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932A-F679-4205-A3C6-F20BD874E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D92B-9D44-439E-8E18-0765D7AF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90DF-BFDC-492B-8723-7B97F4582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40E3-B67B-40FD-A0F8-65C7F299E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7645-071B-4810-969B-2E02004F2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C073-C44C-4527-A197-A18A45DC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2A17-C2FE-41C3-AC02-00186F39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94EE-8D3A-4524-8FE1-ECDA8DE0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9343-0AC1-4EDE-9BEC-51F09535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B7A3-9C80-4B6E-8148-E150F562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C2CC-C127-4966-B211-9205C2F6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AD03-C451-4A40-9ED2-84B87B3E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E6F4-94E8-4B55-B153-812BA0B5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1CB3-BAE7-485F-A5F9-53E23ABD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BB84-663E-43F4-9B36-5E36BEB4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FDEE-FF21-46B3-A1A8-688F88EEE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F988-DBB4-4A7A-95B7-224F85B5E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EECA-EAD7-4446-91AB-21B32D9D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427F-1E6E-4166-B2CA-1F3E50B4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577E-12E7-44EC-856C-81C2B511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D171-EA23-4C53-94B8-7BEB1D04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01F6-9EAE-4BB7-B179-B27CF5AB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C41C-1760-4204-AE4E-4A5D5B30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9E52-53DA-489D-A5A5-AF92AB7E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1D33-37CE-4657-9353-EF4C2E85F1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0DD7-3E7C-4FFC-B299-0BEEA0BED8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ŘÍZENÍ PROJEKTŮ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tr Smutn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dlišnosti 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Čím se PM liší od běžného operativního řízení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časnos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čnos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idělení zdrojů podle potřeb projekt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ýhody 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ůsledné přiřazení odpovědnosti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droje jsou přiděleny podle potřeby a poté uvolněny =&gt; flexibilita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ytváří podmínky pro sledování skutečného průběhu oproti plánu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émový přístu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výhody / rizika 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pecifické požadavky zákazníků se často objevují až v průběhu realizace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utnost častých org. změn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utnost plánovat a oceňovat v předstihu před realizací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 je projek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časné úsilí vynaložené na vytvoření unikátního výsledku (produktu / služby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časnost = je stanoven začátek a kone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kát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í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chnolog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d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nější vlivy a rizik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&gt; jedinečnost = každý projekt se provádí pouz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dno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Základny PM - trojimperati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kt je jedinečný sled aktivit a úkolů, který má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án specifický cíl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ována časová omezení působnost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e stanoven rámec pro čerpání zdrojů na realizac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55640" y="3573360"/>
            <a:ext cx="3672000" cy="2617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572000" y="3573360"/>
            <a:ext cx="388764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blém vzájemné podmíněnost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jednotlivé kategorie trojimperativu jsou vzájemně  propoje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pecifická povaha projekt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určuje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relativní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důležitost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každé podmínky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rojimperativ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=&gt; je nutno hledat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vyvážené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řešení. Jde spíše o optimalizační problém (x maximalizace jednotlivých kategorií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64000" y="2565360"/>
            <a:ext cx="3527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Překážky splnění podmínek trojimperativu (1/3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émy s provedením (kvalitou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špatná komunikace mezi zákazníkem a dodavatelem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íliš ambiciózní předpoklad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yby dodavatele při plánování či realizac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Překážky splnění podmínek trojimperativu (2/3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émy s čas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dostatek zdrojů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dměrný důraz na kvalitu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ení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492360" y="3213000"/>
            <a:ext cx="532764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Překážky splnění podmínek trojimperativu (3/3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émy s nákla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těž lhářů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ůsledek řešení časových skluzů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íliš optimistické počáteční odhad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yby při kalkulaci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ákladní procesní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7774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Životní cyklus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26920" y="2063880"/>
            <a:ext cx="806616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ůběh procesů v rámci životního cyklu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63272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novení cílů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cíl projektu = nová hodnota, která je výsledkem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.M.A.R.T. (Specicic, Measurable, Assignable, Realistic, Time-boun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=&gt; kritéria dosažení úspěch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zakládací listina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formalizuje existenci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řiděluje manažerovi projektu pravomoci pro použití zdroj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efinuje odpovědnost manažera za naplnění požadavků projekt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áklady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ředběžný rozpočet projektu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=&gt;stanovení ceny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ena z pohledu dodavatele = náklady + zis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ena z pohledu zákazníka = rozhodování o návratno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enové strateg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strategie nejnižší nabíd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podcenění prvního projektu (buy-in/bail-out s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c. s. často leží mimo odpovědnost proj. manažer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=&gt;podklad pro uzavření kontra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působ pořízení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nákup vs. vlastní realiz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ř. nákl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kapacity pro realiza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rganizační náro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izika změ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met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oba návratn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iskont peněžních tok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entabilita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zavření kontra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hoda o provedení určitého pracovního výkonu nebo o dodávce produktu /služ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ntrakty založené na nákladových cená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kázané náklady + proměnná část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lačí dodavatele ke snižování náklad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ákazník musí mít silné kontrolní pravomo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ntrakty založené na pevné cen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a zahrnuje i přiměřenou rezerv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často bývá doplněna o cílovou odměn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 je třeba plánova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ologii a meto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dro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ákla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č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héma plánování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8424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Podrobný rozpis prací </a:t>
            </a:r>
            <a:r>
              <a:rPr b="0" lang="cs-CZ" sz="1200" spc="-1" strike="noStrike">
                <a:solidFill>
                  <a:srgbClr val="333399"/>
                </a:solidFill>
                <a:latin typeface="Tahoma"/>
              </a:rPr>
              <a:t>(Work Breakdown Structure)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ychází z definice předmětu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rozepisuje požadovaný produkt do logické hierarchie úloh (činností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e důležitým východiskem pro řízení všech tří složek trojimperativ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rozpis úseků práce (kdo co dělá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časový rozvrh projektu (kdy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lán čerpání nákladů (rozpoč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lánování čas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definuje v jakých termínech a časových sledech budou práce na projektu probíha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nástroj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úsečkové grafy (Ganntův diaga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přehledno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jednoduchost konstruk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neukazují závislosti mezi úkoly (činnostmi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změna v délce jedné činnosti se (automaticky) nepromítne do zbývající části hramonogram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síťové graf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P.E.R.T. – dobu trvání stanovují na základě optimistických realistických a pesimistických variant odhadů trvání činností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G.E.R.T – zdokonalení metody PE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C.P.M. – založena na analýze tzv. kritické cesty = nejdelšího sledu úkolů, který neobsahuje žádné časové rezervy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souhrnně prezentují souvislost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umožňují hledat alternativ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mají definovanou kritickou cest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složito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nepřehledno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zpočet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časově fázový plán reprezentovaný peněžními nebo pracovními jednotkam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án čerpání zdrojů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celkovém souhrn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rozpisu do detailních polož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časovém fázování podle předpokladu postupu čerpá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ody: viz specializované předmě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okace zdrojů – problém omezených zdrojů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ův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možňuje dlouhodobě efektivní využití zdrojů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amezí konfliktu při použití konkrétního zdro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mpromis mezi časem a nákl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oda uhlazení použití zdrojů – vyhladí špičky využití pracovních sil v dílčích úsecích =&gt; ovlivňuje délku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oda umístění zdrojů – hledá nejkratší možnou kritickou cestu vzhledem k limitovaným zdrojů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EALIZAČNÍ FÁZE PROJEKT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alizační fá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jektu zpravidla vyžaduje největší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úsilí a největší náklady. Spočívá v řízení a kontr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aných prací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bíhá v reálném čase podle plán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ují se odchylky od plánu způsobené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předvídatelnými rušivými vlivy, ale také chybami v koncepční fázi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 základě odchylek v čase, nákladech či kvalitě se přijímají korekční opatření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émem řízení realizační fáze je skutečnost, že odchylky jsou na sobě vzájemně závislé a korekce času, nákladů a kvality představují optimalizační úloh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Zájmové subjekty v řízení podniků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109960"/>
            <a:ext cx="77724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dinci nebo organizace, kteří jsou zapojeni do projektu anebo jejichž zájmy jsou ovlivněny realizací projektu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hou mít zcela rozdílné zájmy a proto jejich sladění bývá největším problémem projektového řízen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 nejdůležitějším z nich patří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ákazník – objednavatel (uživatel) výstup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vestor – poskytuje finanční zdroje na projek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ktový manažer – zodpovědný za realizaci projektu na operativní úrovn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Členové projektového týmu – pracovníc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ládní instituce, místní sprá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dnotliví občané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jektový tý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0834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jektový tým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hraný tým pracovníků s minimálními konfliktními vztahy, zaměřený a motivovaný dosáhnout cíle projekt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ým musí být motivován na dosažení cí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týmu musí být vytvořena atmosféra důvěry a odhodlání dosáhnout očekávaného výsledk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členové týmu musí mít možnost projevit svůj názor - týmově analyzovat a řešit problém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č přednáška o PM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ěnící se charakter prostředí a jeho vliv na řízení podniků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žadavky podniků na uchazeče o manažerské pozice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le manažera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ombinace řízení a vede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valifikac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odborn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oft-skills – vedení lidí, motiv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munik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č kontrolova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4170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trola průběhu projektu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e součástí říze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obíhá ve všech třech dimenzích trojimperativ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ntrola provedení (kva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ntrola časového postupu prac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ntrola čerpání náklad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zavření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kceptace = schválení výstupů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ředání výsledk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dnocení průběhu projektu 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plnění cíl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dnocení kvality výstupu i proces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vantifikace rizik, která nastala (odhad možného opakování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teratura ke studi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SVOZILOVÁ, Alena. Projektový Management. Grada: Praha, 2006. (ŘÍZ 539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ROSENAU, Milton D. Řízení projektů. Computer Press. Praha, 2003. (ŘÍZ 41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FIALA, Petr. Projektové řízení. Modely, metody, analýzy. Professional Publishing: Praha, 2004. (ORG 47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GROS, Ivan. Kvantitativní metody v manažerském rozhodování. Grada: Praha, 2003. (ORG 38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ěkuji za pozorno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d 1) měnící se charakter prostředí…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tný rychlý vývoj nových produktů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tné časté a rychlé změny procesů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ividualizace produkce podle požadavků zákazník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šechny tyto faktory vyžadují užití jednorázového řízeného sledu činností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d 2) požadavky podniků na manaže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932508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č přednáška o PM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&gt;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stoucí důležitost znalosti PM pro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dniky i absolven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 je to projektový management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hrn aktivit spočívajících v plánování, organizování, řízení a kontrole zdrojů za účelem splnění (relativně) krátkodobého cíle, který byl stanoven pro realizaci specifických cílů a záměrů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15:53:31Z</dcterms:created>
  <dc:creator>Doc.Ing.Ivan Hálek, CSc.</dc:creator>
  <dc:description/>
  <dc:language>en-US</dc:language>
  <cp:lastModifiedBy>Petr Smutný</cp:lastModifiedBy>
  <dcterms:modified xsi:type="dcterms:W3CDTF">2006-10-12T08:56:53Z</dcterms:modified>
  <cp:revision>80</cp:revision>
  <dc:subject/>
  <dc:title>PROJEKTOVÉ ŘÍZENÍ</dc:title>
</cp:coreProperties>
</file>